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65B-7BC9-45D7-B51B-D34B96F2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913E-C157-4CCB-AE57-14809A69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04D-9607-4335-BBB8-64D39657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A0F-FEC6-4EBA-A325-B6C7214B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C436-173A-4BAE-89F8-21943B62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3C05-47C5-48F0-B8CD-E98C790C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B85E-841A-4CC9-9C62-7B706A25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C848-30EB-4173-8BF7-9692FE1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C4CC-F601-4720-914B-612F2FC6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51B1-E7ED-4DD5-B385-CDFD4E9D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54B5-C88B-4A3B-A86F-C9D6310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2518-A33E-459B-A460-D2587C23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B166-E1D4-46FF-B751-DEFFB71D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A66C-434D-439A-9515-064FD5C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1F49-DF52-4A18-9DF8-4077082C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9BB8-B77F-4E85-BF25-4F13DDB8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86F2-959E-42AD-A354-9EA7E47B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36D-A931-46AF-B7E6-E8B739B5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772-8ECA-417F-BAF4-1652BE81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293-237B-4D72-B17D-9D5AC36A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BFC-41DA-4BCE-803D-9122661A6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A2B-5C81-425A-B4FD-FD40315E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8AFA-7017-4E70-BA89-D37BC2E8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C94-91D7-4865-81B3-D839E220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B6F4-1AB0-4AE1-9940-ACB78388F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773E-F224-4768-9D86-F14469E14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SEROPROFILAKSA</a:t>
            </a:r>
            <a:br>
              <a:rPr sz="4000"/>
            </a:br>
            <a:r>
              <a:rPr b="1" lang="sr-Latn-CS" sz="4000" spc="-1" strike="noStrike">
                <a:solidFill>
                  <a:srgbClr val="ffffb7"/>
                </a:solidFill>
                <a:latin typeface="Times New Roman"/>
              </a:rPr>
              <a:t>(Zaštita specifičnim imunoglobulinima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umi animalnog porekla (heterologni) dobijaju se imunizovanjem životinja (najčešće konja) iz čijeg seruma se spravljaju preparati za primenu u humanoj medicin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Život heterolognih antitela je kraći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(2-4 nedelja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d homolognih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(4-6 nedelja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z razloga što se 8 do 10 dana po ubrizgavanju stvaraju antitela na strane belančevine, što dovodi do brzog razgrađivanja unetih heterolognih antitel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b7"/>
                </a:solidFill>
                <a:latin typeface="Times New Roman"/>
              </a:rPr>
              <a:t>Animalni serumi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484280"/>
            <a:ext cx="80074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bog toga, davanje novih količina heterolognog seruma u cilju produženja zaštite nema svrhe, jer se pri tome stvara povećana opasnost od anafilaktičkih pojava, a heterologna antitela će biti brže razgrađen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i eventualnoj ponovnoj aplikaciji seruma, vreme zaštite se smanjuje, pa u pojedinim slučajevima može trajati samo nekoliko d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</a:rPr>
              <a:t>Humani serum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rumi humanog porekla – imunoglobulini (kompletni serumi se danas više ne koriste) dobijaju se iz plazme i seruma odraslih osoba, rekonvalescenata kao i iz placentarne krv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z ovih materijala izdvajaju se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noglobulini nosioci zaštitnih antitel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koliko preparat sadrži imunoglobuline – antitela protiv više zaraznih bolesti naziva se standardnim ili opštim imunoglobulin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perimuni specifični imunoglobulin sadrži imunoglobuline – antitela prema određenoj bolesti u visokoj koncentraciji (tetanus, besnilo, hepatitis viroza B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vi preparati se dobijaju iz krvi vakcinisanih lic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b7"/>
                </a:solidFill>
                <a:latin typeface="Times New Roman"/>
              </a:rPr>
              <a:t>Pasivni veštački imunitet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sivna zaštita koja se postiže serumima ili imunoglobulinima nastupa brzo, ali je kratkotraj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matra se da se animalnim serumima postiže zaštita koja traje 2-3 nedel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umani preparati daju nešto dužu zaštitu (4-6 nedelja)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akon o zaštiti stanovništva od zaraznih bolest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oje ugrožavaju celu zemlju propisuje obeveznu zaštitu specifičnim imunoglobulinom u profilaksi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tanusa, besnila i hepatitisa 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Vrste seru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eterologi hiperimuni seru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omologi imunoglobul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omologi hiperimuni globul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onoklonska antit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Hetrologni hiperimuni serumi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u serumi koji sadrže frakciju krvi koja sadrži antitela protiv jednog uzročnika ili toksi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gu bit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akterijs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virus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ksični (besnilo, tetanus, botulizam, zmijski uj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Homologi imunoglobulin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ske frakcije seruma koje se dobijaju mešanjem frakcija antitela klase IgG velikog broja don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antitela protiv svih bolsti koje su prebolela ta lica ili su imunizov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vu se standardni ili opšti seru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bili, HAV, Rube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iranje: 0,2-0,4mg na kg telesne m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Homologi hiperimuni serumi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drže visoke titrove specifičnih antitela protiv određenog agensa ili njegovog toksina (tetanus, besnilo, HVB, varičel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bijaju se iz plazme rekonvalescenata ili vakcinisanih osob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zoraju se u IJ na kg telesne m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avilnik o imunizaciji i načinu zaštite lekovima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iz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5/2014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 32/2015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godine obavezuje primenu seruma u određenim situacijama i prema određenim bolest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TETABULI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ptotiv tetan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lučaju tetanogene povrede, pojave prvih simptoma daje se u terapijske svrhe kako bi se sprečila dalja intoksikacija organiz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je od povred prošlo više od 24 časa propisana doza se udvostruča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Antirabični serum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o se ne da odmah sa prvom dozom vakcine, indikovano je davanje do 7. dana jer već od 7. dana počinje sintetza antitela u organizmu čovek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Hepatitis B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je se unutar 24 časa zajedno sa vakcin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obe koje su imale seksualni kontakt sa osobom koja je zaražena virusom HB, treba da prime serum najkasnije 14 dana od poslednjeg seksualnog odnosa sa tom osob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Serum za zaštitu od variče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olenje se može sprečiti ako se unutar 96 sati od kontakta da seru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kspoziociona zaštita novorođenčadi ili imunodeficijentne dece čije su majke obolele od varič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um se daje 5 dana pre i 2 dana po rođenj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Monoklonska antitel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onovi B limfocita koji produkuju samo jednu vrstu antit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obiološki preparati sa apsolutnom standardizacijom i specifičnošć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ena u terapiji i prevenciji infekcija respiratornim sincicijalnim viruso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budućnosti će zameniti druge imunobiološke prepa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eroprofilaksa predstavlja primenu preparata krvi (seruma ili drugih frakcija), koji sadrže antitela stvorena u nekom drugom organizmu (čoveku ili životinji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Na ovaj način nastaje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štački pasivni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imunit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vaj postupak se koristi u slučajevima kada je potrebno stvoriti brzu zaštitu ugroženih lica, ili kada nema drugih mogućnos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981000"/>
            <a:ext cx="80074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bar i Wiliams su 1953. godine imunoelektroforezom gamaglobulinsku frakciju razdvojili na 3 dela: IgG, IgM i IgA klasu imunoglobulina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s ih je poznato ukupno 5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 klasa (IgE i IgD)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3 klase je dokazano da imaju svojstva zaštitnih antitela (IgG, IgM i IgA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ziv “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imunoglobul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koristi s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 imunobiološke preparate koji sadrže one proteine krvi, koji predstavljaju zaštitna antit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Veštački pasivni imunite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stiže se davanjem gotovih antitela stvorenih u telu druge jedinke, čoveka ili životin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imena pasivne zažtite počela je sa radovima nemačkog bakteriologa Emila Beringa-antitoksin protiv difteri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Karakteristike imunit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tova antitela obezbeđuju brzu, efikasnu, ali kratkotrajnu zaštitu, jer se brzo razgrađuj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kovana je primena samo u hitnim slučajevi, neposredne opasnosti od infekci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Prevencija antitelim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ekspoziciona primena, kada postoji rizik  da će neka osoba biti izložena infekci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ekspoziciona kada je agens već ušao u organiz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Postekspoziciona zašti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o-aktivna imunizacija: davanje vakcine i seru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ivna imunizacija, davanje samo seruma, bez davanja vakc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u slučaju da visok titar gotovih antitela ometa sintezu sopstvenih antit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svim slučajevima kada vakcina ne postoji, ili je kontraindikovano davanj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avisno od porekla, serumi mogu biti animalni i huma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Vrste seruma prema poreklu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1:31:58Z</dcterms:created>
  <dc:creator>Intel</dc:creator>
  <dc:description/>
  <dc:language>en-US</dc:language>
  <cp:lastModifiedBy>Natasa Rancic</cp:lastModifiedBy>
  <dcterms:modified xsi:type="dcterms:W3CDTF">2015-11-23T09:19:33Z</dcterms:modified>
  <cp:revision>15</cp:revision>
  <dc:subject/>
  <dc:title>SEROPROFILAKSA (Zaštita specifičnim imunoglobulinim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